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7DE57-154E-4B94-9DF5-A97A9CB3E2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3D73E-DFDA-4E89-9705-9C3C8F79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C8D06C-DA5D-4537-AD06-42D0E565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09882F-A1BD-4598-A020-59F63DF8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D7EF09-CCF9-46C5-B7EC-371790A9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608A8A-5F72-4711-9B8C-0400A5F3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4C31DC-0893-462B-9599-0BFC7D21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48B468-982E-4ECA-AC50-C49A0ED2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AD82F3-DE8C-4936-80BD-421149CA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17B449-C24B-4B36-8C2A-FEDE3E13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9CFAC1-4C12-4C81-A318-75F1462974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A181E-8981-422B-8A2E-EB7FC0CF99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FD6FB-9D00-4DF1-815E-033C72B4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63675-059B-48F5-9C04-79C60453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E7A3A-EADC-444A-8EC4-A9A6BA1E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7FF7B-87C5-497F-8588-24D228DA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3850A-7F2F-4628-8F63-F5359E46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9DC2D-AECA-4521-A99A-A45A8E20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D8DE9-6E09-41DA-BF13-A68EAD72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CDDBB-CEFD-4DD4-8E09-79714247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FED3E-74FD-45CE-B37C-F02A437C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A797F-6724-4659-B084-3A6C95BF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0A457-921D-4F2C-9CB1-AA720935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594B-2989-4E90-A2B7-2A71B1C810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CA1DC-4A99-4EC6-AED2-16C9949630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D4E068-221D-4071-855A-A8E5AED953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EF0443-D76E-401E-B4D0-58352CDD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F6D3A3-3443-4D53-B3A3-36A780B3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CB643A-16FB-49DF-AF71-16D8E86D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417815-1E2B-4687-ABFE-B1923CB8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8E8EC7-1A01-47F4-A387-5E6416F2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1027B5-FC3B-4B56-B55A-0EB99B4A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972AAF-D0DE-48B8-85A8-8C52BAEA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4EC83D-4654-4240-BA6D-6F87119E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46BE3-A36A-497B-9561-5594C27F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B1FAB3-5FDB-4AA2-90FC-B5CED296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3EBB9F-02E3-461C-814D-9848CC06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9937F7-F607-475F-B581-7BC916EA3A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79FFE-B3E0-445B-A8D1-99F0EF76C8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201F2-FD71-48F7-8321-837506AC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FAAC3-ACA9-4425-A81C-3164EDD1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151230-361F-4D34-874D-24F0281E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ED2E1B-7E09-4F8F-A597-F3D1E07D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785EF-2B06-4D22-B344-F28A620E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B680D-17D9-4B00-AA31-E48F67B5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23BC3-B461-470E-A363-5ABB9CEE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6D754-1F3B-44A0-94D6-534C9826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69C07-9D37-49A9-8462-A555C526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ADD6F-FA72-4283-807F-04CF2520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8A9B00-A186-4278-A9C9-3412D44B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4BE22-2CC3-475B-9D0D-D1F32716CA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7B721-9C88-44AB-86D0-2ECF84575C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1EED0-00BF-4464-961D-C6D31AF0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5954A-1B20-4EC9-B9B1-5B30B635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C1874-AFFD-4E6F-B0BC-631C75B2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58436-E630-41F0-B1EA-9E95AF4F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8AE87-A5A4-463F-A2AA-9D9BE44F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35F0C-62FD-4C4A-9FDA-EB2409AA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6EB04-4E93-4877-936F-9E5B9E30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89FF0-5B80-407C-8028-3EB09CDE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51D64-525F-4764-A20F-077542A0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BDE92-0BDF-41E7-8CD8-4D3DFF2E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2608C-4E45-4F33-A9DF-FD51E950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9FCAB-91A4-46CD-B55F-56F45B7D25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D1AC1-0CA1-4215-A094-057C9FAD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D8560-B6B4-44CA-9BB4-4DF3F81A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07870-B1EE-4F35-A355-ADD6C834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CCFBE-4481-4605-B841-1DC0CB0C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8A10D-D837-4038-84AF-F404C98A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81DA8-385B-46F3-B02D-260067A4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7EF9D-9DC8-49F8-9C41-834C5F65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F642E-BE37-4703-B082-44636822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6E8E1-7704-4FC9-B452-5B679987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10F1A-BA04-4C81-91DA-76EDEBCC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5CE75-60C5-4156-9A80-7FF5FD83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C3E55-7DF3-4AC2-AAC6-14FD43DC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E3197-71C0-4AA8-8ED5-818AAE9E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14594-ADEE-4498-890C-3CF22908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C44ED-7F38-44DF-A1DB-42D89D42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AEBD6-1C1C-460B-AEB1-608AC052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71A6D-A80E-4D35-9F1C-B2D1671D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5D60F-0DBF-45A8-8B59-D8FB5299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FBB01-DEB1-49D1-AFC4-F69D49A7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D4D91-7417-440F-9DAF-B337015F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2514B-4EF3-4D9C-AA60-57C20246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E092F-32FC-4B8A-BBF3-86A9EE21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80B03-DF2D-4562-811F-80035C17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A138D-E6F7-4997-B372-E986AE25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ED9F6-95E4-441B-B1EB-B7875B25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96319-EFE0-4AB9-B35E-73B70302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CF3B1-918F-4D05-9996-456BAF5C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0628D-B9E8-4048-BC26-72BD66C3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E7E5F-A6A8-4CAE-A010-A3341664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DFC8C-4238-4E99-8C84-31D1BA7D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F3538-A08D-466A-9628-A3156F31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4D5CE-AAD9-4452-B07A-E303968B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333A0-4771-4AC0-A64A-BC344548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69C28-6DA8-43ED-BC76-2D17DF4F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47E40-83B3-47FA-8F26-9F2DF178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9A257-6F54-4003-9E65-AFD036A3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C6897-2F68-4A32-8AB0-0B9E9F5B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FDF95-D995-4658-BA5F-43DBC6A7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988F4-EED3-4930-8284-6F028336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D9661-315A-4F10-AB40-25C13BD3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92F4A-61D3-4B78-8D07-3EBC82E0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4F084-B016-47C9-AC56-D257E965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3EB8D-F830-4494-A4E4-2F446585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95B7C-3670-4C04-89EA-22C213C3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80845-A24C-4D96-8FA1-5ED82302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4F147-F3A1-4A8A-9FEB-C27D138A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69734-ABC7-4269-A3E8-23070DE0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07F08-DD23-4729-9CBD-28ADC9D9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108CC-77B1-4471-9FC2-3178148C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F96AE-D508-4989-98E5-6D8B64F0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B4958-FCB6-4155-B34F-EDB640D9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CB003-10AA-4620-9EAD-A5CA454F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6D07A-AF74-4E20-B0E7-13FE09D6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1EA74-CB70-4173-93B5-6C3151E9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250F2-628E-4D0E-9F64-EF9DB302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9E026-BF71-4C49-B95A-557D2D60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7F0967-5E7F-4243-990B-8B82BA65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5370BA-DD59-4997-93E3-6B6E90D9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3BCB1-E070-48FF-9214-62202176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ECA86-1C26-48E3-88FC-03636EEF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F5DDCE-648B-413A-9C69-7B957214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D78467-8C0F-4239-8CAC-84F188A9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88AB82-CC83-418A-A7B5-E5247830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FF6BB4-F2B8-4FC2-8168-71EDDD44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AB63ED-03B1-4B52-BE08-D9DC3CE8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4137E0-4887-4810-A56E-E9651756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9AE3B6-C83C-4D19-A918-6607D19F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E3E783-0A79-4CEF-B2C7-75738124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C2D0A2-9C81-4A38-9DAD-326E241C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014E82-C2C2-4AE6-8E74-BC147716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FA3BE-AF77-42BF-B4DE-5863B1B4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528BDF-7E03-40CC-B781-D9A20820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12D85C-4252-4702-BFCD-85A3A2D6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775604-D8C7-48BC-811E-47CD9996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ED832-D13E-4FE6-8528-B3A2BAA6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338728-3221-44F7-A3E6-FF39EC7A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82D826-C6C9-4661-BA79-777444E8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37C7C2-81A5-4AB4-8D74-CCEE0D5C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91479E-7FF8-475E-9572-C20C8D85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06644-90CA-4541-9830-0ED2146B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688A8F-31AA-430B-A06E-A58601F5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97F2E-4C8F-4CBB-82DA-A38C73E9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DA5752-3476-4738-AE4B-6262652D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253D77-4E18-4F6C-8B2E-D6681312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A06923-E6DB-4297-B7F7-F4814672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CF7F44-F0F1-4EEF-81B2-BBB52CDA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743F7A-7DE5-43CF-8491-6F9DD0FF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E72880-DC46-4385-B10A-85E16286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53AE25-558E-41E6-9EA7-5204CA6D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4D7F3-43BD-4EC0-B2BF-F9B66D36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0DA5F-CD74-4543-B009-478EF469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7D9754-B2F4-467B-9428-D11EAEB4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442B6-D0BC-424A-9628-1F5F49F4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120C3E-C423-4CAD-BF5E-2849295F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78F21E-AE8E-4597-9867-808E6E32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BC93CB-EE39-495C-90F9-A0761FEF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4E33F1-FCBC-4719-AC80-7D2D27B0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EF2066-3553-436C-9565-463C8735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FFB061-46D2-408E-AB6E-4D702A2F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FD3353-15A1-4237-8213-ACB142FB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8FC097-5B3E-44B2-ACD1-BC7CEF27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7672BA-C96F-468E-B592-ED346FEB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82A2CA-5EAC-4898-BD46-0C0B441A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9359CE-AA3A-4B09-AF0A-395FA626A1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DFEAA6-84CE-4B4B-955F-CEF1CE80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BDDA6D-E4B9-421E-927C-485A25E3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AD48C8-8E94-4BB5-920A-61A28687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7BFDFC-26DC-4AB9-AF23-79F69EE8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B05474-EDC6-412B-97D9-E140977E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8378FD-BE4D-4567-8C5B-9B366A4A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4FFF9B-E421-465D-AB27-AB21D222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ECCBC4-2A74-47AF-935F-2FB8F817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5C282-B1B6-473F-915F-73D56042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6DE13D-0890-49D4-9EA6-0A9524CE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A6536F-1694-498F-9BE2-9590201A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97DCCC-2153-4EAB-924C-0B6ABE98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06C861-10C5-4EF8-BA1F-3D37F59D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5D5BC5-173C-41E4-8933-A4D7CC2F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C8AD87-F6F9-4D7B-9A1A-E09679EC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C01B05-5CF9-408C-84F9-11AD8586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5F3CAF-E4CD-4B29-81D0-41534616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C6E574-CAA0-45E9-B2FE-25CE50BA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7A3450-DF52-4D17-A864-B7261257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84250C-2B37-4F08-B5FD-6F2915A9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23E552-61EC-4FF1-916D-B04B1B63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87BB53-89CD-422D-9538-092EC018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6E5E84-31C3-496D-87F6-705CA5D9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C976BE-BF70-4943-A59A-26546754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2F51F9-D48F-4D42-A2C9-4D4CA664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4998D4-A05D-4422-B3A1-CF753321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3D0767-3D9F-4102-B7EC-7EBA5EAC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52D455-7B9B-438F-908C-A830BA53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220EC5-5F79-4179-851F-F40EC73C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9B0829-E8F5-442D-8710-594E646A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DE4736-974C-4747-90DC-FDC56A96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B16E89-F6BE-4379-A4C3-15BE968E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06BCA2-CF91-4B0A-8CD1-A99D01F9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D8AA66-96E7-44A0-A743-13CC9500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A642B6-ADD7-42CE-978E-FEB23530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0BF212-F342-49B3-AE78-E03FA596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EA5B3E-EA3A-4EC1-848F-C29D780F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945063-9C99-489F-A819-94C507F8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DAAC34-69B6-4B06-B73F-DD74FF65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A44EA3-8CA8-4924-AEB3-26393FA2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CC6ED8-C657-4550-AEFE-3EFFC74B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103E4A-BCA3-4AB9-909E-7119F41E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1370FA-A56F-494B-BEB2-945173E3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9F1D9-3A74-431C-85C5-DC587E70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18F796-1F1C-496C-A896-63D7025B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80E243-AF21-4F5F-AE81-A3029EC8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06E1BC-B1E0-422B-AB2E-7EA9A231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12B86B-98DC-41DD-9399-8CD8FA50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CB9C3C-75C1-4537-8643-A3E1D867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7EF3B6-6BD2-4D02-BD92-10D4835E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A91AEF-5EFE-419E-A340-E893CBAE44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7A667-A0C6-498D-ACD4-860D419471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EE17D-00C2-435B-AE2F-7D976766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A9427-551D-44E4-8C02-27602A8D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3263D-EAA4-4B7C-A68D-D56FE8AF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0FB85-E943-49FA-9EDC-CAE2A35B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DC5F5-FFF6-4D57-8EAB-D3242F2C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4727B-9CD1-4F88-B67A-770C59EA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ADDB9-7EA1-43AF-8613-7C3368F1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A3335-840A-40F7-832E-1A967CC6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0B459-C371-4D8C-8788-FACEA19D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7A373-A154-44EB-ADE1-D6373522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73ED1-4DA9-4446-BDC6-CCC04F49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68915-74AF-44CD-9FFA-803E6F25ED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9A9A03-C164-4709-9206-1657B5C16E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4B49B-C4D0-4166-9A76-4463ACA8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0156F2-A1B3-4A17-8026-BC8FFBB6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FE5565-F548-47BB-8F35-4B988087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AD89E9-4E53-4F30-B229-6301898B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B8ACF9-B102-418E-A38B-5F411958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04BC82-6132-49E0-A066-24658824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638201-76A4-4727-98A7-2A2E1CA7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D2509B-2434-463E-AC66-E0471C42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D3DC16-4F2A-4454-B759-37ED1D6C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5966BB-14DB-4199-A169-8A0C8120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C38DAF-96FE-49BA-B21B-3DD3C38E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BA14C-E33E-4D39-B41D-92045A06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96078-B217-4270-A533-DBA21D5FF4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66D68A-4051-4CE7-8FD3-9EEC3D3188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0630D2-B7D0-42AB-A529-0D183A65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EF458B-0D07-4EEB-AD6A-EBF3D532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3B31A0-DC03-44D7-B3D3-B7E8A854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5E736F-7772-42BB-A2CC-AEA14509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E96737-2584-44F8-8B39-B44EE2A1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1AC843-331F-4613-9355-23070B04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2E374E-D827-4C30-8D99-990AA3D8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F5B640-E460-4E31-9406-7F7F62A8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1283-16F6-493B-BDE4-005970DA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F9E70A-91C7-4EFC-BCDB-3516A2A2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15C59B-71E8-43E6-BEE4-997EF592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5B8A6F-49A4-4CEE-AF56-708F685932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844D2-7909-4D1A-AF19-DEFDBF60BD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18C00-3590-4333-B347-C187D9A8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9927F-5C60-468E-9879-A2DDE89C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39A2E-2E6C-4564-B1A1-9FADE446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7D49A-AD1D-4D48-B4D7-257587E7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90619-8ACC-44E3-8C94-F6D260CD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11B4E-188A-4C75-B8B6-ED62408C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8F6E0-0D39-4843-ACBA-12A61C70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5170B-059C-47F6-A3C7-D00F9878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191F7-7164-44A3-9077-41B4FBBD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7918F-0799-4ECD-9FC1-15848C3A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6D6F5-97C0-441F-8B6D-E6712386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9F7F8-F28E-422A-96B1-850B708ADE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B4D8A1-0358-44DE-AF3A-00B49C731E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2B17B9-A464-4760-8F1D-D84B4222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18C70-DFE6-4496-8B93-D8698940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3AB7C2-A02A-452D-A2EA-C30DD5D7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65154-9C56-4964-88CB-A77C00CE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FDAB7-4BF7-4D8B-88DA-1FB375E9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7CCD82-BEB8-4EA4-8296-D9C525AD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43AD26-DA95-4051-9825-E7C242C1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A55DF-AA96-4EB9-BA3C-809B5AC9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E1D06-D66A-48D6-A877-818500F7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3F41D4-DB12-4524-959E-59466D1B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3D1797-6874-42EF-8B5E-7B596B34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E08DF-668E-41D1-9BC8-8432334AEA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8ABF6F-424B-4681-B6C2-1E7113D943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E52D1D-9565-4966-8C47-20B57D17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368295-558C-4549-B990-F22281C5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6C53-2F8C-434A-8A05-C46DBF301A6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B7A5-2B94-47C1-A4EC-C92BA89726E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2E67-7538-4628-AE90-49644033ED2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E7C0-79CC-451C-B7E1-582957A2A9C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EB2D-1D84-40A9-8ADF-30358DE2EEE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CB41-AEB6-4F4A-84B7-2B95CD6A851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1EBC-DF66-4CAC-8034-074E5F3389F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83C6-59EB-4481-8DED-012ED62CE86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2CD9-8DB3-41C8-A2AE-F9073B2CFC2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0143-F3F6-4A8E-AEDC-E6BA9723307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30AD-992B-4332-8940-138867D969F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E751-CF86-4462-87A7-B5152008E46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BF0A-7E84-4B57-BBD5-B45EEF5B4B3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FE07-699A-4AF0-87EB-CDABCB32CA9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FB09-D3AE-4369-A597-BB8E8480E15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EF85-D6C9-418A-948D-B533387CE68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1740-B05D-4AC5-A7A7-92C213D4F17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D21C-AD10-42DD-A61B-FA2776D6F8E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DFDF-D10F-431F-9D21-327469E82D2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9B09-1C80-4518-AFFE-B6B9A2D2FEF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B6F5-3CEA-4F44-8FAC-6A0508E1A1E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A180-366C-4EB7-AD80-D89831A94A0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8EFF-AE08-4635-A700-67E52A7D945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2355-4FE3-451B-9AE3-95D78DD8FC1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0.jpe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0.jpe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3.png"/><Relationship Id="rId30" Type="http://schemas.openxmlformats.org/officeDocument/2006/relationships/image" Target="../media/image14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7.png"/><Relationship Id="rId34" Type="http://schemas.openxmlformats.org/officeDocument/2006/relationships/image" Target="../media/image18.png"/><Relationship Id="rId35" Type="http://schemas.openxmlformats.org/officeDocument/2006/relationships/image" Target="../media/image19.png"/><Relationship Id="rId36" Type="http://schemas.openxmlformats.org/officeDocument/2006/relationships/image" Target="../media/image20.png"/><Relationship Id="rId37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428920" y="2841480"/>
            <a:ext cx="5587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422280" y="276876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6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乘 法 口 诀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0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281" name="圆角矩形 2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2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283" name="椭圆 27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4" name="椭圆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5" name="椭圆 2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6" name="椭圆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7" name="圆角矩形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8" name="圆角矩形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9" name="圆角矩形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0" name="圆角矩形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91" name="Rectangle 64"/>
          <p:cNvSpPr/>
          <p:nvPr/>
        </p:nvSpPr>
        <p:spPr>
          <a:xfrm>
            <a:off x="452520" y="49320"/>
            <a:ext cx="1973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矩形 1"/>
          <p:cNvSpPr/>
          <p:nvPr/>
        </p:nvSpPr>
        <p:spPr>
          <a:xfrm>
            <a:off x="2189160" y="264960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263520" y="9932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工人叔叔每人要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卡通玩具，已经做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，还要做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9=9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还要做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矩形 4"/>
          <p:cNvSpPr/>
          <p:nvPr/>
        </p:nvSpPr>
        <p:spPr>
          <a:xfrm>
            <a:off x="1828800" y="2724120"/>
            <a:ext cx="3502080" cy="13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999" name="圆角矩形 24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01" name="椭圆 26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8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1"/>
          <p:cNvSpPr/>
          <p:nvPr/>
        </p:nvSpPr>
        <p:spPr>
          <a:xfrm>
            <a:off x="909720" y="104760"/>
            <a:ext cx="175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一、 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2"/>
          <p:cNvSpPr/>
          <p:nvPr/>
        </p:nvSpPr>
        <p:spPr>
          <a:xfrm>
            <a:off x="1071720" y="1465200"/>
            <a:ext cx="750096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开火车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×1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×2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×4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×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en-US" sz="2500" spc="-1" strike="noStrike">
                <a:solidFill>
                  <a:srgbClr val="808080"/>
                </a:solidFill>
                <a:latin typeface="宋体"/>
              </a:rPr>
              <a:t>×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×1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×5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×3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×5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×3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×1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×2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×3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×2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×3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×4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×5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×1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×4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×4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3"/>
          <p:cNvSpPr/>
          <p:nvPr/>
        </p:nvSpPr>
        <p:spPr>
          <a:xfrm>
            <a:off x="1285920" y="2736720"/>
            <a:ext cx="28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4"/>
          <p:cNvSpPr/>
          <p:nvPr/>
        </p:nvSpPr>
        <p:spPr>
          <a:xfrm>
            <a:off x="2000160" y="21654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5"/>
          <p:cNvSpPr/>
          <p:nvPr/>
        </p:nvSpPr>
        <p:spPr>
          <a:xfrm>
            <a:off x="3714840" y="21654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6"/>
          <p:cNvSpPr/>
          <p:nvPr/>
        </p:nvSpPr>
        <p:spPr>
          <a:xfrm>
            <a:off x="5429160" y="21654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7"/>
          <p:cNvSpPr/>
          <p:nvPr/>
        </p:nvSpPr>
        <p:spPr>
          <a:xfrm>
            <a:off x="7151760" y="21956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8"/>
          <p:cNvSpPr/>
          <p:nvPr/>
        </p:nvSpPr>
        <p:spPr>
          <a:xfrm>
            <a:off x="1906560" y="27687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9"/>
          <p:cNvSpPr/>
          <p:nvPr/>
        </p:nvSpPr>
        <p:spPr>
          <a:xfrm>
            <a:off x="3654360" y="274644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矩形 10"/>
          <p:cNvSpPr/>
          <p:nvPr/>
        </p:nvSpPr>
        <p:spPr>
          <a:xfrm>
            <a:off x="5369040" y="27464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矩形 11"/>
          <p:cNvSpPr/>
          <p:nvPr/>
        </p:nvSpPr>
        <p:spPr>
          <a:xfrm>
            <a:off x="7223040" y="27795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12"/>
          <p:cNvSpPr/>
          <p:nvPr/>
        </p:nvSpPr>
        <p:spPr>
          <a:xfrm>
            <a:off x="1928880" y="33084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13"/>
          <p:cNvSpPr/>
          <p:nvPr/>
        </p:nvSpPr>
        <p:spPr>
          <a:xfrm>
            <a:off x="3654360" y="33177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矩形 14"/>
          <p:cNvSpPr/>
          <p:nvPr/>
        </p:nvSpPr>
        <p:spPr>
          <a:xfrm>
            <a:off x="5380200" y="33256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15"/>
          <p:cNvSpPr/>
          <p:nvPr/>
        </p:nvSpPr>
        <p:spPr>
          <a:xfrm>
            <a:off x="7169040" y="3325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16"/>
          <p:cNvSpPr/>
          <p:nvPr/>
        </p:nvSpPr>
        <p:spPr>
          <a:xfrm>
            <a:off x="1928880" y="38894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17"/>
          <p:cNvSpPr/>
          <p:nvPr/>
        </p:nvSpPr>
        <p:spPr>
          <a:xfrm>
            <a:off x="3643200" y="38797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18"/>
          <p:cNvSpPr/>
          <p:nvPr/>
        </p:nvSpPr>
        <p:spPr>
          <a:xfrm>
            <a:off x="5400720" y="38894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19"/>
          <p:cNvSpPr/>
          <p:nvPr/>
        </p:nvSpPr>
        <p:spPr>
          <a:xfrm>
            <a:off x="7180200" y="388944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20"/>
          <p:cNvSpPr/>
          <p:nvPr/>
        </p:nvSpPr>
        <p:spPr>
          <a:xfrm>
            <a:off x="1928880" y="44686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21"/>
          <p:cNvSpPr/>
          <p:nvPr/>
        </p:nvSpPr>
        <p:spPr>
          <a:xfrm>
            <a:off x="3665520" y="44751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22"/>
          <p:cNvSpPr/>
          <p:nvPr/>
        </p:nvSpPr>
        <p:spPr>
          <a:xfrm>
            <a:off x="5380200" y="44798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23"/>
          <p:cNvSpPr/>
          <p:nvPr/>
        </p:nvSpPr>
        <p:spPr>
          <a:xfrm>
            <a:off x="7165800" y="444024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33" name="圆角矩形 24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4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35" name="椭圆 26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6" name="椭圆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7" name="椭圆 15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8" name="椭圆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圆角矩形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3" name="矩形 1"/>
          <p:cNvSpPr/>
          <p:nvPr/>
        </p:nvSpPr>
        <p:spPr>
          <a:xfrm>
            <a:off x="1707840" y="8424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二、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组合 8"/>
          <p:cNvGrpSpPr/>
          <p:nvPr/>
        </p:nvGrpSpPr>
        <p:grpSpPr>
          <a:xfrm>
            <a:off x="720360" y="1019520"/>
            <a:ext cx="8018640" cy="1902240"/>
            <a:chOff x="720360" y="1019520"/>
            <a:chExt cx="8018640" cy="1902240"/>
          </a:xfrm>
        </p:grpSpPr>
        <p:pic>
          <p:nvPicPr>
            <p:cNvPr id="1045" name="Picture 2" descr="D:\我的文档-桌面-收藏夹\桌面\1212241745128.jpg"/>
            <p:cNvPicPr/>
            <p:nvPr/>
          </p:nvPicPr>
          <p:blipFill>
            <a:blip r:embed="rId8"/>
            <a:stretch/>
          </p:blipFill>
          <p:spPr>
            <a:xfrm rot="1447800">
              <a:off x="6973920" y="1287000"/>
              <a:ext cx="1577520" cy="12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2" descr="D:\我的文档-桌面-收藏夹\桌面\1212241745128.jpg"/>
            <p:cNvPicPr/>
            <p:nvPr/>
          </p:nvPicPr>
          <p:blipFill>
            <a:blip r:embed="rId9"/>
            <a:stretch/>
          </p:blipFill>
          <p:spPr>
            <a:xfrm rot="1447800">
              <a:off x="5753880" y="1287000"/>
              <a:ext cx="1577520" cy="12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Picture 2" descr="D:\我的文档-桌面-收藏夹\桌面\1212241745128.jpg"/>
            <p:cNvPicPr/>
            <p:nvPr/>
          </p:nvPicPr>
          <p:blipFill>
            <a:blip r:embed="rId10"/>
            <a:stretch/>
          </p:blipFill>
          <p:spPr>
            <a:xfrm rot="1447800">
              <a:off x="4522680" y="1287000"/>
              <a:ext cx="1577520" cy="12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Picture 2" descr="D:\我的文档-桌面-收藏夹\桌面\1212241745128.jpg"/>
            <p:cNvPicPr/>
            <p:nvPr/>
          </p:nvPicPr>
          <p:blipFill>
            <a:blip r:embed="rId11"/>
            <a:stretch/>
          </p:blipFill>
          <p:spPr>
            <a:xfrm rot="1447800">
              <a:off x="3303000" y="1287000"/>
              <a:ext cx="1577520" cy="12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Picture 2" descr="D:\我的文档-桌面-收藏夹\桌面\1212241745128.jpg"/>
            <p:cNvPicPr/>
            <p:nvPr/>
          </p:nvPicPr>
          <p:blipFill>
            <a:blip r:embed="rId12"/>
            <a:stretch/>
          </p:blipFill>
          <p:spPr>
            <a:xfrm rot="1447800">
              <a:off x="2079000" y="1287000"/>
              <a:ext cx="1577520" cy="12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Picture 2" descr="D:\我的文档-桌面-收藏夹\桌面\1212241745128.jpg"/>
            <p:cNvPicPr/>
            <p:nvPr/>
          </p:nvPicPr>
          <p:blipFill>
            <a:blip r:embed="rId13"/>
            <a:stretch/>
          </p:blipFill>
          <p:spPr>
            <a:xfrm rot="1447800">
              <a:off x="907560" y="1400040"/>
              <a:ext cx="1577520" cy="12538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51" name=""/>
          <p:cNvGraphicFramePr/>
          <p:nvPr/>
        </p:nvGraphicFramePr>
        <p:xfrm>
          <a:off x="1141560" y="3419640"/>
          <a:ext cx="6715080" cy="944280"/>
        </p:xfrm>
        <a:graphic>
          <a:graphicData uri="http://schemas.openxmlformats.org/drawingml/2006/table">
            <a:tbl>
              <a:tblPr/>
              <a:tblGrid>
                <a:gridCol w="1611360"/>
                <a:gridCol w="888840"/>
                <a:gridCol w="857520"/>
                <a:gridCol w="857160"/>
                <a:gridCol w="857160"/>
                <a:gridCol w="857160"/>
                <a:gridCol w="785880"/>
              </a:tblGrid>
              <a:tr h="472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豆荚个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豆子颗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2" name="矩形 11"/>
          <p:cNvSpPr/>
          <p:nvPr/>
        </p:nvSpPr>
        <p:spPr>
          <a:xfrm>
            <a:off x="4678200" y="38941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12"/>
          <p:cNvSpPr/>
          <p:nvPr/>
        </p:nvSpPr>
        <p:spPr>
          <a:xfrm>
            <a:off x="5570640" y="38941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13"/>
          <p:cNvSpPr/>
          <p:nvPr/>
        </p:nvSpPr>
        <p:spPr>
          <a:xfrm>
            <a:off x="6356520" y="38941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14"/>
          <p:cNvSpPr/>
          <p:nvPr/>
        </p:nvSpPr>
        <p:spPr>
          <a:xfrm>
            <a:off x="7213680" y="38941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八边形 22"/>
          <p:cNvSpPr/>
          <p:nvPr/>
        </p:nvSpPr>
        <p:spPr>
          <a:xfrm>
            <a:off x="314280" y="85896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58" name="圆角矩形 24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9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60" name="椭圆 26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1" name="椭圆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2" name="椭圆 15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3" name="椭圆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圆角矩形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5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6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7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8" name="Rectangle 51"/>
          <p:cNvSpPr/>
          <p:nvPr/>
        </p:nvSpPr>
        <p:spPr>
          <a:xfrm>
            <a:off x="1746360" y="40924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圆角矩形 18"/>
          <p:cNvSpPr/>
          <p:nvPr/>
        </p:nvSpPr>
        <p:spPr>
          <a:xfrm>
            <a:off x="2638440" y="1292400"/>
            <a:ext cx="2000160" cy="310176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101760"/>
              <a:gd name="textAreaBottom" fmla="*/ 3004200 h 3101760"/>
            </a:gdLst>
            <a:ahLst/>
            <a:rect l="textAreaLeft" t="textAreaTop" r="textAreaRight" b="textAreaBottom"/>
            <a:pathLst>
              <a:path w="21600" h="33494">
                <a:moveTo>
                  <a:pt x="3600" y="0"/>
                </a:moveTo>
                <a:arcTo wR="3600" hR="3600" stAng="16200000" swAng="-5400000"/>
                <a:lnTo>
                  <a:pt x="0" y="29894"/>
                </a:lnTo>
                <a:arcTo wR="3600" hR="3600" stAng="10800000" swAng="-5400000"/>
                <a:lnTo>
                  <a:pt x="18000" y="33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99"/>
          </a:solidFill>
          <a:ln w="126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51"/>
          <p:cNvSpPr/>
          <p:nvPr/>
        </p:nvSpPr>
        <p:spPr>
          <a:xfrm>
            <a:off x="1746360" y="2890800"/>
            <a:ext cx="64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51"/>
          <p:cNvSpPr/>
          <p:nvPr/>
        </p:nvSpPr>
        <p:spPr>
          <a:xfrm>
            <a:off x="1746360" y="2422440"/>
            <a:ext cx="64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51"/>
          <p:cNvSpPr/>
          <p:nvPr/>
        </p:nvSpPr>
        <p:spPr>
          <a:xfrm>
            <a:off x="1746360" y="1920960"/>
            <a:ext cx="64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51"/>
          <p:cNvSpPr/>
          <p:nvPr/>
        </p:nvSpPr>
        <p:spPr>
          <a:xfrm>
            <a:off x="3495600" y="1878120"/>
            <a:ext cx="9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十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51"/>
          <p:cNvSpPr/>
          <p:nvPr/>
        </p:nvSpPr>
        <p:spPr>
          <a:xfrm>
            <a:off x="1746360" y="137808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组合 78"/>
          <p:cNvGrpSpPr/>
          <p:nvPr/>
        </p:nvGrpSpPr>
        <p:grpSpPr>
          <a:xfrm>
            <a:off x="996840" y="1778040"/>
            <a:ext cx="5464440" cy="633240"/>
            <a:chOff x="996840" y="1778040"/>
            <a:chExt cx="5464440" cy="633240"/>
          </a:xfrm>
        </p:grpSpPr>
        <p:sp>
          <p:nvSpPr>
            <p:cNvPr id="1076" name="TextBox 44"/>
            <p:cNvSpPr/>
            <p:nvPr/>
          </p:nvSpPr>
          <p:spPr>
            <a:xfrm>
              <a:off x="996840" y="1866600"/>
              <a:ext cx="15714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2×6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TextBox 46"/>
            <p:cNvSpPr/>
            <p:nvPr/>
          </p:nvSpPr>
          <p:spPr>
            <a:xfrm>
              <a:off x="2664000" y="1778040"/>
              <a:ext cx="21430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二六（  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TextBox 48"/>
            <p:cNvSpPr/>
            <p:nvPr/>
          </p:nvSpPr>
          <p:spPr>
            <a:xfrm>
              <a:off x="4889880" y="1904040"/>
              <a:ext cx="15714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6×2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矩形 17"/>
            <p:cNvSpPr/>
            <p:nvPr/>
          </p:nvSpPr>
          <p:spPr>
            <a:xfrm>
              <a:off x="1765080" y="1937880"/>
              <a:ext cx="450000" cy="39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矩形 52"/>
            <p:cNvSpPr/>
            <p:nvPr/>
          </p:nvSpPr>
          <p:spPr>
            <a:xfrm>
              <a:off x="5675760" y="2021040"/>
              <a:ext cx="400680" cy="390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Rectangle 51"/>
          <p:cNvSpPr/>
          <p:nvPr/>
        </p:nvSpPr>
        <p:spPr>
          <a:xfrm>
            <a:off x="5654520" y="3124080"/>
            <a:ext cx="6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51"/>
          <p:cNvSpPr/>
          <p:nvPr/>
        </p:nvSpPr>
        <p:spPr>
          <a:xfrm>
            <a:off x="5654520" y="2540160"/>
            <a:ext cx="4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51"/>
          <p:cNvSpPr/>
          <p:nvPr/>
        </p:nvSpPr>
        <p:spPr>
          <a:xfrm>
            <a:off x="5654520" y="2016000"/>
            <a:ext cx="6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组合 79"/>
          <p:cNvGrpSpPr/>
          <p:nvPr/>
        </p:nvGrpSpPr>
        <p:grpSpPr>
          <a:xfrm>
            <a:off x="995400" y="2394000"/>
            <a:ext cx="5214960" cy="496800"/>
            <a:chOff x="995400" y="2394000"/>
            <a:chExt cx="5214960" cy="496800"/>
          </a:xfrm>
        </p:grpSpPr>
        <p:sp>
          <p:nvSpPr>
            <p:cNvPr id="1085" name="TextBox 34"/>
            <p:cNvSpPr/>
            <p:nvPr/>
          </p:nvSpPr>
          <p:spPr>
            <a:xfrm>
              <a:off x="995400" y="2394000"/>
              <a:ext cx="12859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3×6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31"/>
            <p:cNvSpPr/>
            <p:nvPr/>
          </p:nvSpPr>
          <p:spPr>
            <a:xfrm>
              <a:off x="2625120" y="2422440"/>
              <a:ext cx="21430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三六（  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32"/>
            <p:cNvSpPr/>
            <p:nvPr/>
          </p:nvSpPr>
          <p:spPr>
            <a:xfrm>
              <a:off x="4924440" y="2406600"/>
              <a:ext cx="12859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6×3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矩形 48"/>
            <p:cNvSpPr/>
            <p:nvPr/>
          </p:nvSpPr>
          <p:spPr>
            <a:xfrm>
              <a:off x="1763640" y="2418480"/>
              <a:ext cx="422280" cy="40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矩形 56"/>
            <p:cNvSpPr/>
            <p:nvPr/>
          </p:nvSpPr>
          <p:spPr>
            <a:xfrm>
              <a:off x="5710320" y="2539080"/>
              <a:ext cx="423360" cy="35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51"/>
          <p:cNvSpPr/>
          <p:nvPr/>
        </p:nvSpPr>
        <p:spPr>
          <a:xfrm>
            <a:off x="5727600" y="13780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组合 77"/>
          <p:cNvGrpSpPr/>
          <p:nvPr/>
        </p:nvGrpSpPr>
        <p:grpSpPr>
          <a:xfrm>
            <a:off x="900000" y="1353960"/>
            <a:ext cx="5292720" cy="459000"/>
            <a:chOff x="900000" y="1353960"/>
            <a:chExt cx="5292720" cy="459000"/>
          </a:xfrm>
        </p:grpSpPr>
        <p:sp>
          <p:nvSpPr>
            <p:cNvPr id="1092" name="TextBox 43"/>
            <p:cNvSpPr/>
            <p:nvPr/>
          </p:nvSpPr>
          <p:spPr>
            <a:xfrm>
              <a:off x="900000" y="1377720"/>
              <a:ext cx="121500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1×6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TextBox 45"/>
            <p:cNvSpPr/>
            <p:nvPr/>
          </p:nvSpPr>
          <p:spPr>
            <a:xfrm>
              <a:off x="2476440" y="1385280"/>
              <a:ext cx="15717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一六得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Box 47"/>
            <p:cNvSpPr/>
            <p:nvPr/>
          </p:nvSpPr>
          <p:spPr>
            <a:xfrm>
              <a:off x="4906800" y="1353960"/>
              <a:ext cx="12859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6×1=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51"/>
            <p:cNvSpPr/>
            <p:nvPr/>
          </p:nvSpPr>
          <p:spPr>
            <a:xfrm>
              <a:off x="1689840" y="1385280"/>
              <a:ext cx="433080" cy="39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矩形 59"/>
            <p:cNvSpPr/>
            <p:nvPr/>
          </p:nvSpPr>
          <p:spPr>
            <a:xfrm>
              <a:off x="5740200" y="1385280"/>
              <a:ext cx="379800" cy="39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组合 80"/>
          <p:cNvGrpSpPr/>
          <p:nvPr/>
        </p:nvGrpSpPr>
        <p:grpSpPr>
          <a:xfrm>
            <a:off x="1020600" y="2833560"/>
            <a:ext cx="5135760" cy="644760"/>
            <a:chOff x="1020600" y="2833560"/>
            <a:chExt cx="5135760" cy="644760"/>
          </a:xfrm>
        </p:grpSpPr>
        <p:sp>
          <p:nvSpPr>
            <p:cNvPr id="1098" name="TextBox 64"/>
            <p:cNvSpPr/>
            <p:nvPr/>
          </p:nvSpPr>
          <p:spPr>
            <a:xfrm>
              <a:off x="2663640" y="2931480"/>
              <a:ext cx="2143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四六（       ）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TextBox 65"/>
            <p:cNvSpPr/>
            <p:nvPr/>
          </p:nvSpPr>
          <p:spPr>
            <a:xfrm>
              <a:off x="1020600" y="2833560"/>
              <a:ext cx="1285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4×6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矩形 49"/>
            <p:cNvSpPr/>
            <p:nvPr/>
          </p:nvSpPr>
          <p:spPr>
            <a:xfrm>
              <a:off x="1769760" y="2935080"/>
              <a:ext cx="441000" cy="32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矩形 57"/>
            <p:cNvSpPr/>
            <p:nvPr/>
          </p:nvSpPr>
          <p:spPr>
            <a:xfrm>
              <a:off x="5710680" y="3094200"/>
              <a:ext cx="445680" cy="384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Box 65"/>
            <p:cNvSpPr/>
            <p:nvPr/>
          </p:nvSpPr>
          <p:spPr>
            <a:xfrm>
              <a:off x="4870440" y="3002040"/>
              <a:ext cx="12859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6×4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1"/>
          <p:cNvSpPr/>
          <p:nvPr/>
        </p:nvSpPr>
        <p:spPr>
          <a:xfrm>
            <a:off x="1746360" y="347832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1"/>
          <p:cNvSpPr/>
          <p:nvPr/>
        </p:nvSpPr>
        <p:spPr>
          <a:xfrm>
            <a:off x="5654520" y="3619440"/>
            <a:ext cx="6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组合 81"/>
          <p:cNvGrpSpPr/>
          <p:nvPr/>
        </p:nvGrpSpPr>
        <p:grpSpPr>
          <a:xfrm>
            <a:off x="993600" y="3352680"/>
            <a:ext cx="5197680" cy="666720"/>
            <a:chOff x="993600" y="3352680"/>
            <a:chExt cx="5197680" cy="666720"/>
          </a:xfrm>
        </p:grpSpPr>
        <p:sp>
          <p:nvSpPr>
            <p:cNvPr id="1106" name="TextBox 64"/>
            <p:cNvSpPr/>
            <p:nvPr/>
          </p:nvSpPr>
          <p:spPr>
            <a:xfrm>
              <a:off x="2708640" y="3460680"/>
              <a:ext cx="2142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五六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TextBox 65"/>
            <p:cNvSpPr/>
            <p:nvPr/>
          </p:nvSpPr>
          <p:spPr>
            <a:xfrm>
              <a:off x="993600" y="3352680"/>
              <a:ext cx="1285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5×6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矩形 64"/>
            <p:cNvSpPr/>
            <p:nvPr/>
          </p:nvSpPr>
          <p:spPr>
            <a:xfrm>
              <a:off x="1744560" y="3420360"/>
              <a:ext cx="422640" cy="42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矩形 66"/>
            <p:cNvSpPr/>
            <p:nvPr/>
          </p:nvSpPr>
          <p:spPr>
            <a:xfrm>
              <a:off x="5707800" y="3593160"/>
              <a:ext cx="446760" cy="42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Box 65"/>
            <p:cNvSpPr/>
            <p:nvPr/>
          </p:nvSpPr>
          <p:spPr>
            <a:xfrm>
              <a:off x="4905720" y="3522600"/>
              <a:ext cx="1285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6×5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Rectangle 51"/>
          <p:cNvSpPr/>
          <p:nvPr/>
        </p:nvSpPr>
        <p:spPr>
          <a:xfrm>
            <a:off x="5654520" y="4019400"/>
            <a:ext cx="6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组合 82"/>
          <p:cNvGrpSpPr/>
          <p:nvPr/>
        </p:nvGrpSpPr>
        <p:grpSpPr>
          <a:xfrm>
            <a:off x="963720" y="3921120"/>
            <a:ext cx="5227560" cy="500040"/>
            <a:chOff x="963720" y="3921120"/>
            <a:chExt cx="5227560" cy="500040"/>
          </a:xfrm>
        </p:grpSpPr>
        <p:sp>
          <p:nvSpPr>
            <p:cNvPr id="1113" name="TextBox 65"/>
            <p:cNvSpPr/>
            <p:nvPr/>
          </p:nvSpPr>
          <p:spPr>
            <a:xfrm>
              <a:off x="963720" y="3992040"/>
              <a:ext cx="1285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6×6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矩形 70"/>
            <p:cNvSpPr/>
            <p:nvPr/>
          </p:nvSpPr>
          <p:spPr>
            <a:xfrm>
              <a:off x="1714680" y="4020120"/>
              <a:ext cx="453600" cy="40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72"/>
            <p:cNvSpPr/>
            <p:nvPr/>
          </p:nvSpPr>
          <p:spPr>
            <a:xfrm>
              <a:off x="5674320" y="4071600"/>
              <a:ext cx="457560" cy="33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Box 65"/>
            <p:cNvSpPr/>
            <p:nvPr/>
          </p:nvSpPr>
          <p:spPr>
            <a:xfrm>
              <a:off x="4905720" y="3978000"/>
              <a:ext cx="1285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6×6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Box 64"/>
            <p:cNvSpPr/>
            <p:nvPr/>
          </p:nvSpPr>
          <p:spPr>
            <a:xfrm>
              <a:off x="2601720" y="3921120"/>
              <a:ext cx="2142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六六（   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8" name="Rectangle 51"/>
          <p:cNvSpPr/>
          <p:nvPr/>
        </p:nvSpPr>
        <p:spPr>
          <a:xfrm>
            <a:off x="3495600" y="399240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三十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16"/>
          <p:cNvSpPr/>
          <p:nvPr/>
        </p:nvSpPr>
        <p:spPr>
          <a:xfrm>
            <a:off x="3494160" y="2523960"/>
            <a:ext cx="8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十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文本框 19"/>
          <p:cNvSpPr/>
          <p:nvPr/>
        </p:nvSpPr>
        <p:spPr>
          <a:xfrm>
            <a:off x="3438360" y="299088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二十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文本框 20"/>
          <p:cNvSpPr/>
          <p:nvPr/>
        </p:nvSpPr>
        <p:spPr>
          <a:xfrm>
            <a:off x="3524400" y="35560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三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矩形 3"/>
          <p:cNvSpPr/>
          <p:nvPr/>
        </p:nvSpPr>
        <p:spPr>
          <a:xfrm>
            <a:off x="214200" y="985680"/>
            <a:ext cx="500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用一句口诀写出两个乘法算式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矩形 4"/>
          <p:cNvSpPr/>
          <p:nvPr/>
        </p:nvSpPr>
        <p:spPr>
          <a:xfrm>
            <a:off x="1320840" y="1557360"/>
            <a:ext cx="171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三六十八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直接连接符 6"/>
          <p:cNvSpPr/>
          <p:nvPr/>
        </p:nvSpPr>
        <p:spPr>
          <a:xfrm>
            <a:off x="1214280" y="2557440"/>
            <a:ext cx="17146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直接连接符 9"/>
          <p:cNvSpPr/>
          <p:nvPr/>
        </p:nvSpPr>
        <p:spPr>
          <a:xfrm>
            <a:off x="1214280" y="3200400"/>
            <a:ext cx="17146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矩形 10"/>
          <p:cNvSpPr/>
          <p:nvPr/>
        </p:nvSpPr>
        <p:spPr>
          <a:xfrm>
            <a:off x="1357200" y="207972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×6=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矩形 11"/>
          <p:cNvSpPr/>
          <p:nvPr/>
        </p:nvSpPr>
        <p:spPr>
          <a:xfrm>
            <a:off x="1357200" y="270036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×3=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矩形 15"/>
          <p:cNvSpPr/>
          <p:nvPr/>
        </p:nvSpPr>
        <p:spPr>
          <a:xfrm>
            <a:off x="3714840" y="1557360"/>
            <a:ext cx="171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五六三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直接连接符 16"/>
          <p:cNvSpPr/>
          <p:nvPr/>
        </p:nvSpPr>
        <p:spPr>
          <a:xfrm>
            <a:off x="3606840" y="2557440"/>
            <a:ext cx="171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直接连接符 17"/>
          <p:cNvSpPr/>
          <p:nvPr/>
        </p:nvSpPr>
        <p:spPr>
          <a:xfrm>
            <a:off x="3606840" y="3200400"/>
            <a:ext cx="171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矩形 18"/>
          <p:cNvSpPr/>
          <p:nvPr/>
        </p:nvSpPr>
        <p:spPr>
          <a:xfrm>
            <a:off x="3749760" y="2079720"/>
            <a:ext cx="1430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×6=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19"/>
          <p:cNvSpPr/>
          <p:nvPr/>
        </p:nvSpPr>
        <p:spPr>
          <a:xfrm>
            <a:off x="3749760" y="2700360"/>
            <a:ext cx="1430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×5=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矩形 20"/>
          <p:cNvSpPr/>
          <p:nvPr/>
        </p:nvSpPr>
        <p:spPr>
          <a:xfrm>
            <a:off x="6000840" y="155736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四六二十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直接连接符 21"/>
          <p:cNvSpPr/>
          <p:nvPr/>
        </p:nvSpPr>
        <p:spPr>
          <a:xfrm>
            <a:off x="6037200" y="2557440"/>
            <a:ext cx="17146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直接连接符 22"/>
          <p:cNvSpPr/>
          <p:nvPr/>
        </p:nvSpPr>
        <p:spPr>
          <a:xfrm>
            <a:off x="6037200" y="3200400"/>
            <a:ext cx="17146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矩形 23"/>
          <p:cNvSpPr/>
          <p:nvPr/>
        </p:nvSpPr>
        <p:spPr>
          <a:xfrm>
            <a:off x="6180120" y="207972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×6=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矩形 24"/>
          <p:cNvSpPr/>
          <p:nvPr/>
        </p:nvSpPr>
        <p:spPr>
          <a:xfrm>
            <a:off x="6180120" y="270036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×4=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矩形 30"/>
          <p:cNvSpPr/>
          <p:nvPr/>
        </p:nvSpPr>
        <p:spPr>
          <a:xfrm>
            <a:off x="357120" y="3629160"/>
            <a:ext cx="428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组合 75"/>
          <p:cNvGrpSpPr/>
          <p:nvPr/>
        </p:nvGrpSpPr>
        <p:grpSpPr>
          <a:xfrm>
            <a:off x="785880" y="3700440"/>
            <a:ext cx="7748640" cy="1300320"/>
            <a:chOff x="785880" y="3700440"/>
            <a:chExt cx="7748640" cy="1300320"/>
          </a:xfrm>
        </p:grpSpPr>
        <p:pic>
          <p:nvPicPr>
            <p:cNvPr id="1140" name="Picture 5" descr="D:\我的文档-桌面-收藏夹\桌面\40r58PICIfT.jpg"/>
            <p:cNvPicPr/>
            <p:nvPr/>
          </p:nvPicPr>
          <p:blipFill>
            <a:blip r:embed="rId1"/>
            <a:srcRect l="30003" t="19515" r="28463" b="12804"/>
            <a:stretch/>
          </p:blipFill>
          <p:spPr>
            <a:xfrm>
              <a:off x="785880" y="3714840"/>
              <a:ext cx="1905120" cy="128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1" name="组合 47"/>
            <p:cNvGrpSpPr/>
            <p:nvPr/>
          </p:nvGrpSpPr>
          <p:grpSpPr>
            <a:xfrm>
              <a:off x="842400" y="3700440"/>
              <a:ext cx="1714680" cy="1285920"/>
              <a:chOff x="842400" y="3700440"/>
              <a:chExt cx="1714680" cy="1285920"/>
            </a:xfrm>
          </p:grpSpPr>
          <p:pic>
            <p:nvPicPr>
              <p:cNvPr id="1142" name="Picture 7" descr="D:\我的文档-桌面-收藏夹\桌面\6608733_111540136000_2副本.png"/>
              <p:cNvPicPr/>
              <p:nvPr/>
            </p:nvPicPr>
            <p:blipFill>
              <a:blip r:embed="rId2"/>
              <a:stretch/>
            </p:blipFill>
            <p:spPr>
              <a:xfrm>
                <a:off x="842400" y="3744360"/>
                <a:ext cx="762120" cy="88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3" name="Picture 7" descr="D:\我的文档-桌面-收藏夹\桌面\6608733_111540136000_2副本.png"/>
              <p:cNvPicPr/>
              <p:nvPr/>
            </p:nvPicPr>
            <p:blipFill>
              <a:blip r:embed="rId3"/>
              <a:stretch/>
            </p:blipFill>
            <p:spPr>
              <a:xfrm>
                <a:off x="842400" y="4017600"/>
                <a:ext cx="762120" cy="88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4" name="Picture 7" descr="D:\我的文档-桌面-收藏夹\桌面\6608733_111540136000_2副本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1328400" y="370044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Picture 7" descr="D:\我的文档-桌面-收藏夹\桌面\6608733_111540136000_2副本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1280880" y="405252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Picture 7" descr="D:\我的文档-桌面-收藏夹\桌面\6608733_111540136000_2副本.png"/>
              <p:cNvPicPr/>
              <p:nvPr/>
            </p:nvPicPr>
            <p:blipFill>
              <a:blip r:embed="rId6"/>
              <a:stretch/>
            </p:blipFill>
            <p:spPr>
              <a:xfrm flipH="1">
                <a:off x="1757160" y="370044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Picture 7" descr="D:\我的文档-桌面-收藏夹\桌面\6608733_111540136000_2副本.png"/>
              <p:cNvPicPr/>
              <p:nvPr/>
            </p:nvPicPr>
            <p:blipFill>
              <a:blip r:embed="rId7"/>
              <a:stretch/>
            </p:blipFill>
            <p:spPr>
              <a:xfrm flipH="1">
                <a:off x="1709640" y="399960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48" name="Picture 5" descr="D:\我的文档-桌面-收藏夹\桌面\40r58PICIfT.jpg"/>
            <p:cNvPicPr/>
            <p:nvPr/>
          </p:nvPicPr>
          <p:blipFill>
            <a:blip r:embed="rId8"/>
            <a:srcRect l="30003" t="19515" r="28463" b="12804"/>
            <a:stretch/>
          </p:blipFill>
          <p:spPr>
            <a:xfrm>
              <a:off x="2714760" y="3714840"/>
              <a:ext cx="1905120" cy="128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9" name="组合 49"/>
            <p:cNvGrpSpPr/>
            <p:nvPr/>
          </p:nvGrpSpPr>
          <p:grpSpPr>
            <a:xfrm>
              <a:off x="2771280" y="3700440"/>
              <a:ext cx="1714680" cy="1285920"/>
              <a:chOff x="2771280" y="3700440"/>
              <a:chExt cx="1714680" cy="1285920"/>
            </a:xfrm>
          </p:grpSpPr>
          <p:pic>
            <p:nvPicPr>
              <p:cNvPr id="1150" name="Picture 7" descr="D:\我的文档-桌面-收藏夹\桌面\6608733_111540136000_2副本.png"/>
              <p:cNvPicPr/>
              <p:nvPr/>
            </p:nvPicPr>
            <p:blipFill>
              <a:blip r:embed="rId9"/>
              <a:stretch/>
            </p:blipFill>
            <p:spPr>
              <a:xfrm>
                <a:off x="2771280" y="3744360"/>
                <a:ext cx="762120" cy="88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1" name="Picture 7" descr="D:\我的文档-桌面-收藏夹\桌面\6608733_111540136000_2副本.png"/>
              <p:cNvPicPr/>
              <p:nvPr/>
            </p:nvPicPr>
            <p:blipFill>
              <a:blip r:embed="rId10"/>
              <a:stretch/>
            </p:blipFill>
            <p:spPr>
              <a:xfrm>
                <a:off x="2771280" y="4017600"/>
                <a:ext cx="762120" cy="88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2" name="Picture 7" descr="D:\我的文档-桌面-收藏夹\桌面\6608733_111540136000_2副本.png"/>
              <p:cNvPicPr/>
              <p:nvPr/>
            </p:nvPicPr>
            <p:blipFill>
              <a:blip r:embed="rId11"/>
              <a:stretch/>
            </p:blipFill>
            <p:spPr>
              <a:xfrm flipH="1">
                <a:off x="3257280" y="370044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Picture 7" descr="D:\我的文档-桌面-收藏夹\桌面\6608733_111540136000_2副本.png"/>
              <p:cNvPicPr/>
              <p:nvPr/>
            </p:nvPicPr>
            <p:blipFill>
              <a:blip r:embed="rId12"/>
              <a:stretch/>
            </p:blipFill>
            <p:spPr>
              <a:xfrm flipH="1">
                <a:off x="3209760" y="405252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4" name="Picture 7" descr="D:\我的文档-桌面-收藏夹\桌面\6608733_111540136000_2副本.png"/>
              <p:cNvPicPr/>
              <p:nvPr/>
            </p:nvPicPr>
            <p:blipFill>
              <a:blip r:embed="rId13"/>
              <a:stretch/>
            </p:blipFill>
            <p:spPr>
              <a:xfrm flipH="1">
                <a:off x="3686040" y="370044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5" name="Picture 7" descr="D:\我的文档-桌面-收藏夹\桌面\6608733_111540136000_2副本.png"/>
              <p:cNvPicPr/>
              <p:nvPr/>
            </p:nvPicPr>
            <p:blipFill>
              <a:blip r:embed="rId14"/>
              <a:stretch/>
            </p:blipFill>
            <p:spPr>
              <a:xfrm flipH="1">
                <a:off x="3638520" y="399960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56" name="Picture 5" descr="D:\我的文档-桌面-收藏夹\桌面\40r58PICIfT.jpg"/>
            <p:cNvPicPr/>
            <p:nvPr/>
          </p:nvPicPr>
          <p:blipFill>
            <a:blip r:embed="rId15"/>
            <a:srcRect l="30003" t="19515" r="28463" b="12804"/>
            <a:stretch/>
          </p:blipFill>
          <p:spPr>
            <a:xfrm>
              <a:off x="4715280" y="3714840"/>
              <a:ext cx="1905120" cy="128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7" name="组合 57"/>
            <p:cNvGrpSpPr/>
            <p:nvPr/>
          </p:nvGrpSpPr>
          <p:grpSpPr>
            <a:xfrm>
              <a:off x="4771800" y="3700440"/>
              <a:ext cx="1714680" cy="1285920"/>
              <a:chOff x="4771800" y="3700440"/>
              <a:chExt cx="1714680" cy="1285920"/>
            </a:xfrm>
          </p:grpSpPr>
          <p:pic>
            <p:nvPicPr>
              <p:cNvPr id="1158" name="Picture 7" descr="D:\我的文档-桌面-收藏夹\桌面\6608733_111540136000_2副本.png"/>
              <p:cNvPicPr/>
              <p:nvPr/>
            </p:nvPicPr>
            <p:blipFill>
              <a:blip r:embed="rId16"/>
              <a:stretch/>
            </p:blipFill>
            <p:spPr>
              <a:xfrm>
                <a:off x="4771800" y="3744360"/>
                <a:ext cx="762120" cy="88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9" name="Picture 7" descr="D:\我的文档-桌面-收藏夹\桌面\6608733_111540136000_2副本.png"/>
              <p:cNvPicPr/>
              <p:nvPr/>
            </p:nvPicPr>
            <p:blipFill>
              <a:blip r:embed="rId17"/>
              <a:stretch/>
            </p:blipFill>
            <p:spPr>
              <a:xfrm>
                <a:off x="4771800" y="4017600"/>
                <a:ext cx="762120" cy="88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0" name="Picture 7" descr="D:\我的文档-桌面-收藏夹\桌面\6608733_111540136000_2副本.png"/>
              <p:cNvPicPr/>
              <p:nvPr/>
            </p:nvPicPr>
            <p:blipFill>
              <a:blip r:embed="rId18"/>
              <a:stretch/>
            </p:blipFill>
            <p:spPr>
              <a:xfrm flipH="1">
                <a:off x="5257800" y="370044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1" name="Picture 7" descr="D:\我的文档-桌面-收藏夹\桌面\6608733_111540136000_2副本.png"/>
              <p:cNvPicPr/>
              <p:nvPr/>
            </p:nvPicPr>
            <p:blipFill>
              <a:blip r:embed="rId19"/>
              <a:stretch/>
            </p:blipFill>
            <p:spPr>
              <a:xfrm flipH="1">
                <a:off x="5210280" y="405252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2" name="Picture 7" descr="D:\我的文档-桌面-收藏夹\桌面\6608733_111540136000_2副本.png"/>
              <p:cNvPicPr/>
              <p:nvPr/>
            </p:nvPicPr>
            <p:blipFill>
              <a:blip r:embed="rId20"/>
              <a:stretch/>
            </p:blipFill>
            <p:spPr>
              <a:xfrm flipH="1">
                <a:off x="5686560" y="370044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3" name="Picture 7" descr="D:\我的文档-桌面-收藏夹\桌面\6608733_111540136000_2副本.png"/>
              <p:cNvPicPr/>
              <p:nvPr/>
            </p:nvPicPr>
            <p:blipFill>
              <a:blip r:embed="rId21"/>
              <a:stretch/>
            </p:blipFill>
            <p:spPr>
              <a:xfrm flipH="1">
                <a:off x="5639040" y="399960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64" name="Picture 5" descr="D:\我的文档-桌面-收藏夹\桌面\40r58PICIfT.jpg"/>
            <p:cNvPicPr/>
            <p:nvPr/>
          </p:nvPicPr>
          <p:blipFill>
            <a:blip r:embed="rId22"/>
            <a:srcRect l="30003" t="19515" r="28463" b="12804"/>
            <a:stretch/>
          </p:blipFill>
          <p:spPr>
            <a:xfrm>
              <a:off x="6629400" y="3714840"/>
              <a:ext cx="1905120" cy="128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5" name="组合 65"/>
            <p:cNvGrpSpPr/>
            <p:nvPr/>
          </p:nvGrpSpPr>
          <p:grpSpPr>
            <a:xfrm>
              <a:off x="6685920" y="3700440"/>
              <a:ext cx="1714680" cy="1285920"/>
              <a:chOff x="6685920" y="3700440"/>
              <a:chExt cx="1714680" cy="1285920"/>
            </a:xfrm>
          </p:grpSpPr>
          <p:pic>
            <p:nvPicPr>
              <p:cNvPr id="1166" name="Picture 7" descr="D:\我的文档-桌面-收藏夹\桌面\6608733_111540136000_2副本.png"/>
              <p:cNvPicPr/>
              <p:nvPr/>
            </p:nvPicPr>
            <p:blipFill>
              <a:blip r:embed="rId23"/>
              <a:stretch/>
            </p:blipFill>
            <p:spPr>
              <a:xfrm>
                <a:off x="6685920" y="3744360"/>
                <a:ext cx="762120" cy="88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7" name="Picture 7" descr="D:\我的文档-桌面-收藏夹\桌面\6608733_111540136000_2副本.png"/>
              <p:cNvPicPr/>
              <p:nvPr/>
            </p:nvPicPr>
            <p:blipFill>
              <a:blip r:embed="rId24"/>
              <a:stretch/>
            </p:blipFill>
            <p:spPr>
              <a:xfrm>
                <a:off x="6685920" y="4017600"/>
                <a:ext cx="762120" cy="88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Picture 7" descr="D:\我的文档-桌面-收藏夹\桌面\6608733_111540136000_2副本.png"/>
              <p:cNvPicPr/>
              <p:nvPr/>
            </p:nvPicPr>
            <p:blipFill>
              <a:blip r:embed="rId25"/>
              <a:stretch/>
            </p:blipFill>
            <p:spPr>
              <a:xfrm flipH="1">
                <a:off x="7171920" y="370044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9" name="Picture 7" descr="D:\我的文档-桌面-收藏夹\桌面\6608733_111540136000_2副本.png"/>
              <p:cNvPicPr/>
              <p:nvPr/>
            </p:nvPicPr>
            <p:blipFill>
              <a:blip r:embed="rId26"/>
              <a:stretch/>
            </p:blipFill>
            <p:spPr>
              <a:xfrm flipH="1">
                <a:off x="7124400" y="405252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0" name="Picture 7" descr="D:\我的文档-桌面-收藏夹\桌面\6608733_111540136000_2副本.png"/>
              <p:cNvPicPr/>
              <p:nvPr/>
            </p:nvPicPr>
            <p:blipFill>
              <a:blip r:embed="rId27"/>
              <a:stretch/>
            </p:blipFill>
            <p:spPr>
              <a:xfrm flipH="1">
                <a:off x="7600680" y="370044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Picture 7" descr="D:\我的文档-桌面-收藏夹\桌面\6608733_111540136000_2副本.png"/>
              <p:cNvPicPr/>
              <p:nvPr/>
            </p:nvPicPr>
            <p:blipFill>
              <a:blip r:embed="rId28"/>
              <a:stretch/>
            </p:blipFill>
            <p:spPr>
              <a:xfrm flipH="1">
                <a:off x="7553160" y="399960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2" name="矩形 72"/>
          <p:cNvSpPr/>
          <p:nvPr/>
        </p:nvSpPr>
        <p:spPr>
          <a:xfrm>
            <a:off x="714240" y="5143680"/>
            <a:ext cx="500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一共有多少个    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Picture 7" descr="D:\我的文档-桌面-收藏夹\桌面\6608733_111540136000_2副本.png"/>
          <p:cNvPicPr/>
          <p:nvPr/>
        </p:nvPicPr>
        <p:blipFill>
          <a:blip r:embed="rId29"/>
          <a:stretch/>
        </p:blipFill>
        <p:spPr>
          <a:xfrm>
            <a:off x="2571840" y="4995720"/>
            <a:ext cx="799920" cy="933480"/>
          </a:xfrm>
          <a:prstGeom prst="rect">
            <a:avLst/>
          </a:prstGeom>
          <a:ln w="0">
            <a:noFill/>
          </a:ln>
        </p:spPr>
      </p:pic>
      <p:sp>
        <p:nvSpPr>
          <p:cNvPr id="1174" name="矩形 74"/>
          <p:cNvSpPr/>
          <p:nvPr/>
        </p:nvSpPr>
        <p:spPr>
          <a:xfrm>
            <a:off x="2928960" y="5786280"/>
            <a:ext cx="214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×6=2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组合 2"/>
          <p:cNvGrpSpPr/>
          <p:nvPr/>
        </p:nvGrpSpPr>
        <p:grpSpPr>
          <a:xfrm>
            <a:off x="22320" y="87480"/>
            <a:ext cx="3124080" cy="527040"/>
            <a:chOff x="22320" y="87480"/>
            <a:chExt cx="3124080" cy="527040"/>
          </a:xfrm>
        </p:grpSpPr>
        <p:pic>
          <p:nvPicPr>
            <p:cNvPr id="1176" name="圆角矩形 25" descr=""/>
            <p:cNvPicPr/>
            <p:nvPr/>
          </p:nvPicPr>
          <p:blipFill>
            <a:blip r:embed="rId30"/>
            <a:stretch/>
          </p:blipFill>
          <p:spPr>
            <a:xfrm>
              <a:off x="166320" y="87480"/>
              <a:ext cx="298008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7" name="组合 4"/>
            <p:cNvGrpSpPr/>
            <p:nvPr/>
          </p:nvGrpSpPr>
          <p:grpSpPr>
            <a:xfrm>
              <a:off x="22320" y="182520"/>
              <a:ext cx="413640" cy="274680"/>
              <a:chOff x="22320" y="182520"/>
              <a:chExt cx="413640" cy="274680"/>
            </a:xfrm>
          </p:grpSpPr>
          <p:sp>
            <p:nvSpPr>
              <p:cNvPr id="1178" name="椭圆 27"/>
              <p:cNvSpPr/>
              <p:nvPr/>
            </p:nvSpPr>
            <p:spPr>
              <a:xfrm rot="16200000">
                <a:off x="262440" y="348480"/>
                <a:ext cx="98640" cy="11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9" name="椭圆 28" descr=""/>
              <p:cNvPicPr/>
              <p:nvPr/>
            </p:nvPicPr>
            <p:blipFill>
              <a:blip r:embed="rId31"/>
              <a:stretch/>
            </p:blipFill>
            <p:spPr>
              <a:xfrm>
                <a:off x="226800" y="314640"/>
                <a:ext cx="209160" cy="11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椭圆 29"/>
              <p:cNvSpPr/>
              <p:nvPr/>
            </p:nvSpPr>
            <p:spPr>
              <a:xfrm rot="16200000">
                <a:off x="262440" y="222120"/>
                <a:ext cx="98640" cy="11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1" name="椭圆 31" descr=""/>
              <p:cNvPicPr/>
              <p:nvPr/>
            </p:nvPicPr>
            <p:blipFill>
              <a:blip r:embed="rId32"/>
              <a:stretch/>
            </p:blipFill>
            <p:spPr>
              <a:xfrm>
                <a:off x="226800" y="197640"/>
                <a:ext cx="209160" cy="11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2" name="圆角矩形 32" descr=""/>
              <p:cNvPicPr/>
              <p:nvPr/>
            </p:nvPicPr>
            <p:blipFill>
              <a:blip r:embed="rId33"/>
              <a:stretch/>
            </p:blipFill>
            <p:spPr>
              <a:xfrm>
                <a:off x="22320" y="331560"/>
                <a:ext cx="340920" cy="10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3" name="圆角矩形 33" descr=""/>
              <p:cNvPicPr/>
              <p:nvPr/>
            </p:nvPicPr>
            <p:blipFill>
              <a:blip r:embed="rId34"/>
              <a:stretch/>
            </p:blipFill>
            <p:spPr>
              <a:xfrm>
                <a:off x="22320" y="302040"/>
                <a:ext cx="340920" cy="10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4" name="圆角矩形 34" descr=""/>
              <p:cNvPicPr/>
              <p:nvPr/>
            </p:nvPicPr>
            <p:blipFill>
              <a:blip r:embed="rId35"/>
              <a:stretch/>
            </p:blipFill>
            <p:spPr>
              <a:xfrm>
                <a:off x="22320" y="211680"/>
                <a:ext cx="340920" cy="10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5" name="圆角矩形 35" descr=""/>
              <p:cNvPicPr/>
              <p:nvPr/>
            </p:nvPicPr>
            <p:blipFill>
              <a:blip r:embed="rId36"/>
              <a:stretch/>
            </p:blipFill>
            <p:spPr>
              <a:xfrm>
                <a:off x="22320" y="182520"/>
                <a:ext cx="340920" cy="10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86" name="Rectangle 64"/>
          <p:cNvSpPr/>
          <p:nvPr/>
        </p:nvSpPr>
        <p:spPr>
          <a:xfrm>
            <a:off x="152280" y="66600"/>
            <a:ext cx="29498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 txBox="1"/>
          <p:nvPr/>
        </p:nvSpPr>
        <p:spPr>
          <a:xfrm>
            <a:off x="34128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一、把口诀填完整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二六（</a:t>
            </a:r>
            <a:r>
              <a:rPr b="0" lang="zh-CN" sz="2900" spc="-1" strike="noStrike">
                <a:solidFill>
                  <a:srgbClr val="ff0000"/>
                </a:solidFill>
                <a:latin typeface="Arial"/>
              </a:rPr>
              <a:t>十二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 ）       五六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 </a:t>
            </a:r>
            <a:r>
              <a:rPr b="0" lang="zh-CN" sz="2900" spc="-1" strike="noStrike">
                <a:solidFill>
                  <a:srgbClr val="ff0000"/>
                </a:solidFill>
                <a:latin typeface="Arial"/>
              </a:rPr>
              <a:t>三十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900" spc="-1" strike="noStrike">
                <a:solidFill>
                  <a:srgbClr val="ff0000"/>
                </a:solidFill>
                <a:latin typeface="Arial"/>
              </a:rPr>
              <a:t>六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六三十六        四六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zh-CN" sz="2900" spc="-1" strike="noStrike">
                <a:solidFill>
                  <a:srgbClr val="ff0000"/>
                </a:solidFill>
                <a:latin typeface="Arial"/>
              </a:rPr>
              <a:t>二十四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zh-CN" sz="2900" spc="-1" strike="noStrike">
                <a:solidFill>
                  <a:srgbClr val="ff0000"/>
                </a:solidFill>
                <a:latin typeface="Arial"/>
              </a:rPr>
              <a:t>一六 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得六        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zh-CN" sz="2900" spc="-1" strike="noStrike">
                <a:solidFill>
                  <a:srgbClr val="ff0000"/>
                </a:solidFill>
                <a:latin typeface="Arial"/>
              </a:rPr>
              <a:t>二九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十八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三六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900" spc="-1" strike="noStrike">
                <a:solidFill>
                  <a:srgbClr val="ff0000"/>
                </a:solidFill>
                <a:latin typeface="Arial"/>
              </a:rPr>
              <a:t>十八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     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六六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900" spc="-1" strike="noStrike">
                <a:solidFill>
                  <a:srgbClr val="ff0000"/>
                </a:solidFill>
                <a:latin typeface="Arial"/>
              </a:rPr>
              <a:t>三十六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zh-CN" sz="2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900" spc="-1" strike="noStrike">
                <a:solidFill>
                  <a:srgbClr val="ff0000"/>
                </a:solidFill>
                <a:latin typeface="Arial"/>
              </a:rPr>
              <a:t>六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十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组合 2"/>
          <p:cNvGrpSpPr/>
          <p:nvPr/>
        </p:nvGrpSpPr>
        <p:grpSpPr>
          <a:xfrm>
            <a:off x="22320" y="87480"/>
            <a:ext cx="3149640" cy="527040"/>
            <a:chOff x="22320" y="87480"/>
            <a:chExt cx="3149640" cy="527040"/>
          </a:xfrm>
        </p:grpSpPr>
        <p:pic>
          <p:nvPicPr>
            <p:cNvPr id="1189" name="圆角矩形 25" descr=""/>
            <p:cNvPicPr/>
            <p:nvPr/>
          </p:nvPicPr>
          <p:blipFill>
            <a:blip r:embed="rId1"/>
            <a:stretch/>
          </p:blipFill>
          <p:spPr>
            <a:xfrm>
              <a:off x="167760" y="87480"/>
              <a:ext cx="300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0" name="组合 4"/>
            <p:cNvGrpSpPr/>
            <p:nvPr/>
          </p:nvGrpSpPr>
          <p:grpSpPr>
            <a:xfrm>
              <a:off x="22320" y="182520"/>
              <a:ext cx="417240" cy="274680"/>
              <a:chOff x="22320" y="182520"/>
              <a:chExt cx="417240" cy="274680"/>
            </a:xfrm>
          </p:grpSpPr>
          <p:sp>
            <p:nvSpPr>
              <p:cNvPr id="1191" name="椭圆 27"/>
              <p:cNvSpPr/>
              <p:nvPr/>
            </p:nvSpPr>
            <p:spPr>
              <a:xfrm rot="16200000">
                <a:off x="263160" y="348120"/>
                <a:ext cx="9864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2" name="椭圆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229680" y="313560"/>
                <a:ext cx="209880" cy="11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3" name="椭圆 29"/>
              <p:cNvSpPr/>
              <p:nvPr/>
            </p:nvSpPr>
            <p:spPr>
              <a:xfrm rot="16200000">
                <a:off x="263160" y="221400"/>
                <a:ext cx="9864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4" name="椭圆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9680" y="197640"/>
                <a:ext cx="209880" cy="11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5" name="圆角矩形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22320" y="330480"/>
                <a:ext cx="344160" cy="10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6" name="圆角矩形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20" y="301320"/>
                <a:ext cx="344160" cy="10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7" name="圆角矩形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20" y="211320"/>
                <a:ext cx="344160" cy="10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8" name="圆角矩形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22320" y="182520"/>
                <a:ext cx="344160" cy="102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9" name="矩形 1"/>
          <p:cNvSpPr/>
          <p:nvPr/>
        </p:nvSpPr>
        <p:spPr>
          <a:xfrm>
            <a:off x="1552680" y="1797120"/>
            <a:ext cx="765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矩形 2"/>
          <p:cNvSpPr/>
          <p:nvPr/>
        </p:nvSpPr>
        <p:spPr>
          <a:xfrm>
            <a:off x="4352760" y="1733400"/>
            <a:ext cx="9558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矩形 3"/>
          <p:cNvSpPr/>
          <p:nvPr/>
        </p:nvSpPr>
        <p:spPr>
          <a:xfrm>
            <a:off x="666720" y="2606760"/>
            <a:ext cx="3938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矩形 4"/>
          <p:cNvSpPr/>
          <p:nvPr/>
        </p:nvSpPr>
        <p:spPr>
          <a:xfrm>
            <a:off x="4467240" y="2616120"/>
            <a:ext cx="1319040" cy="5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矩形 5"/>
          <p:cNvSpPr/>
          <p:nvPr/>
        </p:nvSpPr>
        <p:spPr>
          <a:xfrm>
            <a:off x="826920" y="3414600"/>
            <a:ext cx="9892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矩形 6"/>
          <p:cNvSpPr/>
          <p:nvPr/>
        </p:nvSpPr>
        <p:spPr>
          <a:xfrm>
            <a:off x="3879720" y="3463920"/>
            <a:ext cx="9892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矩形 7"/>
          <p:cNvSpPr/>
          <p:nvPr/>
        </p:nvSpPr>
        <p:spPr>
          <a:xfrm>
            <a:off x="1338120" y="4226040"/>
            <a:ext cx="9892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矩形 8"/>
          <p:cNvSpPr/>
          <p:nvPr/>
        </p:nvSpPr>
        <p:spPr>
          <a:xfrm>
            <a:off x="4073400" y="4238640"/>
            <a:ext cx="12700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矩形 9"/>
          <p:cNvSpPr/>
          <p:nvPr/>
        </p:nvSpPr>
        <p:spPr>
          <a:xfrm>
            <a:off x="1047600" y="5046840"/>
            <a:ext cx="590760" cy="45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406440" y="1079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填一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×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×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×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－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＋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9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210" name="圆角矩形 2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1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212" name="椭圆 27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3" name="椭圆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4" name="椭圆 2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5" name="椭圆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6" name="圆角矩形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7" name="圆角矩形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8" name="圆角矩形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9" name="圆角矩形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0" name="Rectangle 64"/>
          <p:cNvSpPr/>
          <p:nvPr/>
        </p:nvSpPr>
        <p:spPr>
          <a:xfrm>
            <a:off x="452520" y="49320"/>
            <a:ext cx="1973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矩形 1"/>
          <p:cNvSpPr/>
          <p:nvPr/>
        </p:nvSpPr>
        <p:spPr>
          <a:xfrm>
            <a:off x="3135240" y="177480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矩形 3"/>
          <p:cNvSpPr/>
          <p:nvPr/>
        </p:nvSpPr>
        <p:spPr>
          <a:xfrm>
            <a:off x="6246720" y="1752480"/>
            <a:ext cx="40644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矩形 4"/>
          <p:cNvSpPr/>
          <p:nvPr/>
        </p:nvSpPr>
        <p:spPr>
          <a:xfrm>
            <a:off x="2019240" y="2367000"/>
            <a:ext cx="40644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矩形 5"/>
          <p:cNvSpPr/>
          <p:nvPr/>
        </p:nvSpPr>
        <p:spPr>
          <a:xfrm>
            <a:off x="5487840" y="2347920"/>
            <a:ext cx="40644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矩形 6"/>
          <p:cNvSpPr/>
          <p:nvPr/>
        </p:nvSpPr>
        <p:spPr>
          <a:xfrm>
            <a:off x="7254720" y="2316240"/>
            <a:ext cx="4795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矩形 7"/>
          <p:cNvSpPr/>
          <p:nvPr/>
        </p:nvSpPr>
        <p:spPr>
          <a:xfrm>
            <a:off x="3095640" y="2925720"/>
            <a:ext cx="29376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矩形 8"/>
          <p:cNvSpPr/>
          <p:nvPr/>
        </p:nvSpPr>
        <p:spPr>
          <a:xfrm>
            <a:off x="4546440" y="2935440"/>
            <a:ext cx="32544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矩形 9"/>
          <p:cNvSpPr/>
          <p:nvPr/>
        </p:nvSpPr>
        <p:spPr>
          <a:xfrm>
            <a:off x="2101680" y="3548160"/>
            <a:ext cx="32400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矩形 10"/>
          <p:cNvSpPr/>
          <p:nvPr/>
        </p:nvSpPr>
        <p:spPr>
          <a:xfrm>
            <a:off x="3932280" y="3521160"/>
            <a:ext cx="37764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11"/>
          <p:cNvSpPr/>
          <p:nvPr/>
        </p:nvSpPr>
        <p:spPr>
          <a:xfrm>
            <a:off x="5645160" y="3508200"/>
            <a:ext cx="37764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12"/>
          <p:cNvSpPr/>
          <p:nvPr/>
        </p:nvSpPr>
        <p:spPr>
          <a:xfrm>
            <a:off x="2182680" y="4143240"/>
            <a:ext cx="37800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矩形 13"/>
          <p:cNvSpPr/>
          <p:nvPr/>
        </p:nvSpPr>
        <p:spPr>
          <a:xfrm>
            <a:off x="3870360" y="4127400"/>
            <a:ext cx="37944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矩形 15"/>
          <p:cNvSpPr/>
          <p:nvPr/>
        </p:nvSpPr>
        <p:spPr>
          <a:xfrm>
            <a:off x="5548320" y="4113360"/>
            <a:ext cx="37944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矩形 16"/>
          <p:cNvSpPr/>
          <p:nvPr/>
        </p:nvSpPr>
        <p:spPr>
          <a:xfrm>
            <a:off x="7423200" y="4097160"/>
            <a:ext cx="37944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 txBox="1"/>
          <p:nvPr/>
        </p:nvSpPr>
        <p:spPr>
          <a:xfrm>
            <a:off x="422280" y="9932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我会填“＋”“－”或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     3=6          6      5 =11         2      5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     5=13       4       2 =8           6      3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     5=25       3      2 =6            4       6=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237" name="圆角矩形 2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8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239" name="椭圆 27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0" name="椭圆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椭圆 2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2" name="椭圆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3" name="圆角矩形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4" name="圆角矩形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5" name="圆角矩形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6" name="圆角矩形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47" name="Rectangle 64"/>
          <p:cNvSpPr/>
          <p:nvPr/>
        </p:nvSpPr>
        <p:spPr>
          <a:xfrm>
            <a:off x="452520" y="49320"/>
            <a:ext cx="1973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51786"/>
          <p:cNvSpPr/>
          <p:nvPr/>
        </p:nvSpPr>
        <p:spPr>
          <a:xfrm>
            <a:off x="709560" y="1935000"/>
            <a:ext cx="474840" cy="398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51786"/>
          <p:cNvSpPr/>
          <p:nvPr/>
        </p:nvSpPr>
        <p:spPr>
          <a:xfrm>
            <a:off x="2955960" y="1935000"/>
            <a:ext cx="474480" cy="398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51786"/>
          <p:cNvSpPr/>
          <p:nvPr/>
        </p:nvSpPr>
        <p:spPr>
          <a:xfrm>
            <a:off x="5446800" y="1935000"/>
            <a:ext cx="474480" cy="398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51786"/>
          <p:cNvSpPr/>
          <p:nvPr/>
        </p:nvSpPr>
        <p:spPr>
          <a:xfrm>
            <a:off x="709560" y="2967120"/>
            <a:ext cx="474840" cy="398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51786"/>
          <p:cNvSpPr/>
          <p:nvPr/>
        </p:nvSpPr>
        <p:spPr>
          <a:xfrm>
            <a:off x="2955960" y="2967120"/>
            <a:ext cx="474480" cy="398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51786"/>
          <p:cNvSpPr/>
          <p:nvPr/>
        </p:nvSpPr>
        <p:spPr>
          <a:xfrm>
            <a:off x="5446800" y="2967120"/>
            <a:ext cx="474480" cy="398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51786"/>
          <p:cNvSpPr/>
          <p:nvPr/>
        </p:nvSpPr>
        <p:spPr>
          <a:xfrm>
            <a:off x="709560" y="3902040"/>
            <a:ext cx="474840" cy="39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51786"/>
          <p:cNvSpPr/>
          <p:nvPr/>
        </p:nvSpPr>
        <p:spPr>
          <a:xfrm>
            <a:off x="2870280" y="3902040"/>
            <a:ext cx="474480" cy="39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51786"/>
          <p:cNvSpPr/>
          <p:nvPr/>
        </p:nvSpPr>
        <p:spPr>
          <a:xfrm>
            <a:off x="5521320" y="3902040"/>
            <a:ext cx="473040" cy="39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文本框 47"/>
          <p:cNvSpPr/>
          <p:nvPr/>
        </p:nvSpPr>
        <p:spPr>
          <a:xfrm>
            <a:off x="768240" y="1951200"/>
            <a:ext cx="3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文本框 48"/>
          <p:cNvSpPr/>
          <p:nvPr/>
        </p:nvSpPr>
        <p:spPr>
          <a:xfrm>
            <a:off x="3006720" y="1935000"/>
            <a:ext cx="3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文本框 49"/>
          <p:cNvSpPr/>
          <p:nvPr/>
        </p:nvSpPr>
        <p:spPr>
          <a:xfrm>
            <a:off x="5464080" y="193500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文本框 51"/>
          <p:cNvSpPr/>
          <p:nvPr/>
        </p:nvSpPr>
        <p:spPr>
          <a:xfrm>
            <a:off x="768240" y="296712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文本框 53"/>
          <p:cNvSpPr/>
          <p:nvPr/>
        </p:nvSpPr>
        <p:spPr>
          <a:xfrm>
            <a:off x="2990880" y="2967120"/>
            <a:ext cx="3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文本框 55"/>
          <p:cNvSpPr/>
          <p:nvPr/>
        </p:nvSpPr>
        <p:spPr>
          <a:xfrm>
            <a:off x="5548320" y="296712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文本框 56"/>
          <p:cNvSpPr/>
          <p:nvPr/>
        </p:nvSpPr>
        <p:spPr>
          <a:xfrm>
            <a:off x="768240" y="391968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文本框 58"/>
          <p:cNvSpPr/>
          <p:nvPr/>
        </p:nvSpPr>
        <p:spPr>
          <a:xfrm>
            <a:off x="2948040" y="39085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文本框 59"/>
          <p:cNvSpPr/>
          <p:nvPr/>
        </p:nvSpPr>
        <p:spPr>
          <a:xfrm>
            <a:off x="5580000" y="3935520"/>
            <a:ext cx="2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 txBox="1"/>
          <p:nvPr/>
        </p:nvSpPr>
        <p:spPr>
          <a:xfrm>
            <a:off x="422280" y="9932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刘老师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盒乒乓球，每盒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，同学们借走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，还剩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7=13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还剩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3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268" name="圆角矩形 2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9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270" name="椭圆 27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1" name="椭圆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2" name="椭圆 2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3" name="椭圆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4" name="圆角矩形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5" name="圆角矩形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6" name="圆角矩形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7" name="圆角矩形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8" name="Rectangle 64"/>
          <p:cNvSpPr/>
          <p:nvPr/>
        </p:nvSpPr>
        <p:spPr>
          <a:xfrm>
            <a:off x="452520" y="49320"/>
            <a:ext cx="1973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矩形 1"/>
          <p:cNvSpPr/>
          <p:nvPr/>
        </p:nvSpPr>
        <p:spPr>
          <a:xfrm>
            <a:off x="2019240" y="2717640"/>
            <a:ext cx="356724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6T01:35:00Z</dcterms:created>
  <dc:creator/>
  <dc:description/>
  <dc:language>en-US</dc:language>
  <cp:lastModifiedBy>万润仪器贸易公司</cp:lastModifiedBy>
  <dcterms:modified xsi:type="dcterms:W3CDTF">2020-08-21T00:36:41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